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91F-5BF3-439C-8740-171D012D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19C-8F68-496B-A0C3-2C233125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0CDF6-134C-4502-97CA-9D4B6A2C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C0AA4-9C8D-429A-BB30-C6340E2D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6815E-41B9-4B87-9D1B-10C1B997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C55C9-69B9-4919-9352-8091AB40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2B94D-8162-4834-B3E7-DD4A8826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C73FF-7FEF-430B-BEA1-10A2F1E9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6186B-4111-4D51-B3AD-1522F7A6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1F53E-9B2B-4EB6-B80E-1BCAB299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6E3FE-C058-4549-8B2A-ECFE1B37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A9E52-3DEF-4A3A-864A-0EB79216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329-1404-4175-AF6A-56E67548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1A34D-1B9D-4983-9A03-7F33C883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B9B7E-3FC1-477D-8319-1DB0F3F0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C3D52-5DE5-4158-9941-FCE533BD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C786D-1A08-41BB-872B-40788A80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8B245-75FD-4410-AAD4-06E467DC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BC17C4-1D31-4873-AD59-9F3A4514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2FB6C-A757-42A3-8F2E-05FF8D88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C51CF-9CC6-43A1-B032-97827226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6A9B4-BE59-4D93-98A0-2360F7D2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22600-AE34-4DC7-867C-52037BC2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255-1A8C-4332-8D95-B9A2227F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FB6D0-4662-4D0F-86E3-C66E4714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E4BA8-620B-4727-B543-4648AE01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360F0-A135-455F-8D0E-8C763652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1F20B-E34F-47E3-A01F-87B91330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1E095-79B2-4642-9DC3-19BCC8F2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2ECB6-413F-4EC1-BAEF-DDA32428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74434-DADB-47C9-9639-7DC495B9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D00A4-B337-45E1-965C-919C9377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74AC2-0EE2-4781-BCAB-A540CA59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30118-C9FD-47E1-A1A8-6DC170C9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8FA5-08FF-49CA-89E4-AB4D7FBD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29593-3B2D-4D6F-AB04-87859097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31227-185E-4005-9BD2-88BF3730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3E0D3-55B9-4841-93BA-68B91748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3CC8C-94B4-44E2-86F4-7E385F29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E6724-0879-453B-961F-04057BD3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86CDB-21FF-41BD-AFC6-D13E943B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99B1C-0DE5-4BFD-93ED-E178AA18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0AE67-102B-4BFA-B26D-9B5B79AC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1EB85-36BF-41FB-B350-327B3222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4E151-626E-4FEC-92E9-088AF50F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46B2-91AD-40C6-A030-89C23941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3755B-2777-4E2D-A4C7-6623ACEA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E8F6C-72C5-48AA-90A3-F2761775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0D85B8-2772-4DB7-BD61-FEF3186D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ED10F-B7EE-4CD7-9009-C4C1FF22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B5714-71D1-4EDA-8F34-799EF799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2807C-12FD-4D66-B32C-45CE3D94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D1CE0-974C-4B51-9082-BE143605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9ADFC5-EE28-4994-8076-F97C0802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8CCEB-C194-43A7-B6FE-B8DA7911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9D568-06E1-455E-BEEC-9651BBDA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8B7A-25B8-46EF-ACE3-8DFB315C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DD50D-CC2F-4F12-9A5A-868DD505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F1E46C-A369-425E-8993-917939D5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8101B-C6AE-4301-B196-19276FFC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0DF8B-F72C-458F-B6F3-2E2EFC3F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D2CA88-CEA1-4FCF-BF85-E1901D67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3512F3-7DF0-488E-8B5B-0B971A30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EA07B-00AF-4FB9-91EC-57D82443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2CB52-F844-4F89-96BF-1C80C653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05004-D570-4760-B0CE-05593394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D84080-CB97-4C4B-9E9B-470FA63C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4DC6-20CA-4367-90B6-CEC7BBF3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DCE822-34FC-4BFE-9263-A78AB241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7DEECD-1E1C-4E7E-B502-18D8451D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0F275F-6A2A-4B39-9C88-13EA71A8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AE5FB-3605-4B13-8D66-B97AB52A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03790-8E03-44CC-8FE5-0AC4B2C6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93B438-7F17-4FCB-80AA-6D5DA54D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39464-BD83-4D55-8786-CAB4964A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E2C51F-4F68-4469-8CF1-130727F3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0A03B-EBE6-44D4-9366-62205C95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07F5-7DEA-4B1A-A8DE-86A0BFCF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CF79-8EDE-4C48-B5CF-3D0BF1CD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4673-DE1A-4092-8A17-2702B725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8CC-19BB-4BCB-9F0F-5410AE38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CCD8-C84C-4D5B-A7B5-246927BC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6731-6250-49C3-BA87-74A8DE0C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AFF5-D3FF-4233-A8CA-7A558C74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BEC7-5923-4BD0-96D3-DCE7A61D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8C78-135A-47B5-81B9-840776AB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0EB3A-2FDF-4C81-BF6A-64E1FF92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D583D-FEA5-4A4D-AD5E-163E3667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BA63E-621E-4E87-8B12-8E3A2492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7672B-C8ED-48EE-A89B-59611B7A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7EF77-5586-4257-9991-54D8BEF1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FF4A-1E69-46F1-9E55-840B1C68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95AAA-D7B1-445A-9A0C-F6E1BA90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E02C8-3B4D-40FF-ABA4-9017C3D2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99A4A-BC4D-4172-8E4E-71D4F466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4B6B8-B472-4759-A02D-4E90A405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09014-F67D-4A01-8010-B3CBB59B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E1CF7-BB82-4F13-8DAD-C40DC3E1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8C1BE-FF45-45B2-92D4-C974A767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D751C-FB00-4546-BDFA-FA549774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ED39E-19B2-4D77-A6C7-A21B1C1B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D2C15-CE7A-4C45-8DDF-C49BAF42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33E-2AA6-4BC2-A89C-D08D179A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F612D-AA8B-4A4C-B4D9-F3517623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7B2D6-65AD-42CE-AB3C-B6704C97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AFE04-F5C7-4247-B221-0036E07D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37F33-3238-4D36-BFAE-8710C645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62000-1CB6-4DBE-9B9A-28822FD3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63CF4-A11E-49DF-AD73-D2D26F65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9FE44-DEE5-4FFF-863E-485E2D64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28AB8-17D8-45A1-9969-B5D88F1F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84BEA-461B-4407-AC58-ABDCCE48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93279-419A-4063-BDAD-A56ADC25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B24-062C-47BA-8A46-300A01DA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DB465-ACBA-44A7-A70B-E4540C52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988ED-EB47-4823-A7BB-648D8DB3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A7610-931A-4C5D-A876-036C4FA4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50EB4-0D42-4C74-AA03-D2E98A9E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463E1-3855-4F60-A347-9A2750AC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A24A9-84FB-40D5-BB89-46158BCD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7AAFE-478D-4199-ACE7-5A99363E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678BB-2EB2-4BD3-A7B7-8684CE45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89036-19AA-4230-8B6D-A2E72358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58940-EDCC-4B9D-B6AD-EA650A9D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A8D-1EFA-4916-90FA-38E695DC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A5740-48AA-4652-9371-144D7BCA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6FD76-9558-4F05-B585-0DC4E8DC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9D9E8-2076-4743-8822-CA464D8F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0FB5F-56D0-458A-B6B9-B8C11F0E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154DD-DBED-49D1-BE7B-696BC7EE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B01BA-3AEC-4315-ADEA-B1A01E4F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87115-8927-4C51-B3DD-410ACE80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A8CD3-DBD7-4E4A-8259-A556B4C7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B4B55-1405-41D0-87ED-C04AE4E8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CD82B-C4BB-40A0-90AB-0F0074D7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CD8-A7F4-43D2-BFB8-C6B2328E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461AB-6716-495A-BA8A-E03D038B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43DE6-72FE-45B3-8614-93E6E8EE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B9D12-CFC3-485E-A906-F4F88B86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FE4E5C-E3CE-4D17-9CA0-D8C8C0CB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4305AD-3BCF-42FD-B2C9-04697AD8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2D2768-77A9-4B38-9722-C821B481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C03C91-D736-4808-BA91-FF5CF90B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2FB2B8-B40E-4779-91F0-52800797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584ECD-CC7B-432F-BA80-7E8A9482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7EDCD-5F4E-4346-83F6-488C2DEB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9A0-2126-4561-8142-B9BC03C8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8AF3E3-3BD9-45DA-95C9-B79FD40E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060317-84AA-45BA-84DE-BCECAC61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E35873-9088-4161-BFD8-9C9EB57A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C522F-C0D0-40C3-A247-2A6824C6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BC76B0-7C9B-40A7-80CD-5454252A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AB741-11DE-4B36-BE8C-C722FE98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86703-9F2D-49AB-AE3B-83DABBFB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E7739-A634-429C-B19A-8EDFA7C1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D77B1-B814-4FCA-A506-F4BB2FD3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F5198-7858-410D-A637-5434BFAE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421-6C36-466A-9CBF-661A3AA5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19B60-3159-4616-99FA-7B924396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52A28-BA27-4893-BD7F-AF19B5A0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6D835-14C9-4AEB-956A-A8D5D6AE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67EAA-307B-4217-AB8A-E6F45081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DE30E-00CD-46BB-9736-FC4C27A4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7E8C2-DDE2-406A-BEBF-44A45128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7CA4F-065C-4B33-A7EE-F9EBDF8A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808D6-7A2C-4A18-8254-80BD0F44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60C2B-BD1A-4381-A69E-06F82F20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358DD-9C48-49DA-9D99-BAFBA6C7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963D-1D50-4559-9E76-87F9A6CA6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07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00E0-8F3E-49F9-863C-CED496CE5E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75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8582-58EC-4B0B-817E-AC7F142ED19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3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26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4B9A-97F3-426A-97AB-5AEE30A2898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9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8ACA-4CB0-4FF8-B3F9-32CA3D67A73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95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96F5-05A5-429C-A29F-EC979C2BC28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B1CB-50BF-4E81-8565-47DA9F178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83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85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87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1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93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4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95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32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0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81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84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94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01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79E1-6D6B-43FA-A0EB-35E72EFA36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4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1BDE-5864-476F-A7E2-E5777CAAEF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97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0f777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006e6b"/>
                </a:gs>
                <a:gs pos="100000">
                  <a:srgbClr val="2e888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1BA4-9F3E-47F1-B664-AAEAAFFE0C4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54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67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375C-90AA-4FE0-8202-FCFB363AD16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3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5F20-102D-4564-8672-E1633A4AC93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EBC9-6996-4E47-BA18-2C6377E7753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542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543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544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5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546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9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550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51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552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53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554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5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6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7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8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9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0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1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2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3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4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5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6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7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8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69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0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1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2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3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4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5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6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7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8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79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0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1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2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3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4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5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6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7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8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9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90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591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2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3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4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5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6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7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8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9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0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1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2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03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4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6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7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9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0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1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2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3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4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5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6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7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8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19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0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1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2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3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4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5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6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8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9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0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1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2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3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4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5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6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7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8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639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640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2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643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52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653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9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660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8899-D6F6-4301-9FCF-0781F17C20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w York – Healthc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6a6a6"/>
                </a:solidFill>
                <a:latin typeface="Apple Chancery"/>
              </a:rPr>
              <a:t>-40,000 physicia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Colonna MT"/>
              </a:rPr>
              <a:t>-70 hospit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merican Typewriter Condensed"/>
              </a:rPr>
              <a:t>-375,000 healthcare work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14fd"/>
                </a:solidFill>
                <a:latin typeface="Goudy Old Style"/>
              </a:rPr>
              <a:t>-Mount Sinai: first liver transplant, cigarettes to cancer, artificial kidney, flu sho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0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0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Picture 4" descr="San_Francisco-1853"/>
          <p:cNvPicPr/>
          <p:nvPr/>
        </p:nvPicPr>
        <p:blipFill>
          <a:blip r:embed="rId1"/>
          <a:stretch/>
        </p:blipFill>
        <p:spPr>
          <a:xfrm>
            <a:off x="0" y="2573280"/>
            <a:ext cx="91440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hicago - Spor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MLB: Cubs, White S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cCursive"/>
                <a:ea typeface="AbcCursive"/>
              </a:rPr>
              <a:t>-NBA: Bu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pple Chancery"/>
                <a:ea typeface="Apple Chancery"/>
              </a:rPr>
              <a:t>-NHL: Blackhaw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ndale Mono"/>
              </a:rPr>
              <a:t>-Football: B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olleges: DePaul, Loyola, UIC, Northwes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dffde"/>
                </a:solidFill>
                <a:latin typeface="Arno Pro Bold Italic SmText"/>
              </a:rPr>
              <a:t>-Stadiums: 10+ major ven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500"/>
                                        <p:tgtEl>
                                          <p:spTgt spid="1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hicago – Major Companie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-Encyclopedia Britannic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cc"/>
                </a:solidFill>
                <a:latin typeface="Bell Gothic Std"/>
              </a:rPr>
              <a:t>-Orbitz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f5d"/>
                </a:solidFill>
                <a:latin typeface="Corbel"/>
              </a:rPr>
              <a:t>-Tootsie Rol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f0ff"/>
                </a:solidFill>
                <a:latin typeface="Eurostile"/>
              </a:rPr>
              <a:t>-US Cellula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b74"/>
                </a:solidFill>
                <a:latin typeface="Kino MT"/>
              </a:rPr>
              <a:t>-United Airline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ff12"/>
                </a:solidFill>
                <a:latin typeface="Futura Medium"/>
              </a:rPr>
              <a:t>-McDondald’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4352e"/>
                </a:solidFill>
                <a:latin typeface="Verdana"/>
              </a:rPr>
              <a:t>-Walgree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500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500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500"/>
                                        <p:tgtEl>
                                          <p:spTgt spid="10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icago – Transport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.7 million rides per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“El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Subway: 8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r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abs: 7,000 in 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High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irports: O’Hare 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usiest, 70,000,000), Mid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8" name="Picture 4" descr="Chicago El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5" descr="Chicago Highway"/>
          <p:cNvPicPr/>
          <p:nvPr/>
        </p:nvPicPr>
        <p:blipFill>
          <a:blip r:embed="rId2"/>
          <a:stretch/>
        </p:blipFill>
        <p:spPr>
          <a:xfrm>
            <a:off x="1468440" y="0"/>
            <a:ext cx="6207120" cy="68580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6" descr="Chicago Subway"/>
          <p:cNvPicPr/>
          <p:nvPr/>
        </p:nvPicPr>
        <p:blipFill>
          <a:blip r:embed="rId3"/>
          <a:stretch/>
        </p:blipFill>
        <p:spPr>
          <a:xfrm>
            <a:off x="2209680" y="152280"/>
            <a:ext cx="4807080" cy="6600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7" descr="Chicago Train"/>
          <p:cNvPicPr/>
          <p:nvPr/>
        </p:nvPicPr>
        <p:blipFill>
          <a:blip r:embed="rId4"/>
          <a:stretch/>
        </p:blipFill>
        <p:spPr>
          <a:xfrm>
            <a:off x="1143000" y="-152280"/>
            <a:ext cx="7362720" cy="70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0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os Angeles – Entertainmen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fff8"/>
                </a:solidFill>
                <a:latin typeface="MaestroTimes"/>
              </a:rPr>
              <a:t>-Hollywood – ab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ut 80% of mov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f5d"/>
                </a:solidFill>
                <a:latin typeface="Harrington"/>
              </a:rPr>
              <a:t>-Academy Award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091ff"/>
                </a:solidFill>
                <a:latin typeface="Herculanum"/>
              </a:rPr>
              <a:t>-Los Angeles Lake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b74"/>
                </a:solidFill>
                <a:latin typeface="Monaco"/>
              </a:rPr>
              <a:t>-The Tonight Show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df0ff"/>
                </a:solidFill>
                <a:latin typeface="Jazz LET"/>
              </a:rPr>
              <a:t>-Dr. Phi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-Wheel of Fortu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6" name="Picture 4" descr="LA Stars6"/>
          <p:cNvPicPr/>
          <p:nvPr/>
        </p:nvPicPr>
        <p:blipFill>
          <a:blip r:embed="rId2"/>
          <a:stretch/>
        </p:blipFill>
        <p:spPr>
          <a:xfrm>
            <a:off x="2362320" y="76320"/>
            <a:ext cx="4451400" cy="67053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5" descr="LA Stars8"/>
          <p:cNvPicPr/>
          <p:nvPr/>
        </p:nvPicPr>
        <p:blipFill>
          <a:blip r:embed="rId3"/>
          <a:stretch/>
        </p:blipFill>
        <p:spPr>
          <a:xfrm>
            <a:off x="2362320" y="76320"/>
            <a:ext cx="4460760" cy="67053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6" descr="LA Stars7"/>
          <p:cNvPicPr/>
          <p:nvPr/>
        </p:nvPicPr>
        <p:blipFill>
          <a:blip r:embed="rId4"/>
          <a:stretch/>
        </p:blipFill>
        <p:spPr>
          <a:xfrm>
            <a:off x="2438280" y="228600"/>
            <a:ext cx="43592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500"/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s Angeles - Transportatio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Subway, train, cabs, busses – 1.7 million per 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Airports: 5 major airports, 75 million combin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Port: 43 miles of coastl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1" name="Picture 5" descr="LAX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500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ew York – The Ar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entury Gothic"/>
              </a:rPr>
              <a:t>-Broadwa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ff5d"/>
                </a:solidFill>
                <a:latin typeface="Prestige Elite Std"/>
              </a:rPr>
              <a:t>-MTV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9dff"/>
                </a:solidFill>
                <a:latin typeface="Papyrus"/>
              </a:rPr>
              <a:t>-VH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rebuchet MS"/>
              </a:rPr>
              <a:t>-The On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cccc"/>
                </a:solidFill>
                <a:latin typeface="Calibri"/>
              </a:rPr>
              <a:t>-Metropolitan Museum of Art: 2 million works of a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500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20:23:52Z</dcterms:created>
  <dc:creator>Art Vandelay</dc:creator>
  <dc:description/>
  <dc:language>en-US</dc:language>
  <cp:lastModifiedBy>Franklin</cp:lastModifiedBy>
  <dcterms:modified xsi:type="dcterms:W3CDTF">2009-12-06T23:18:05Z</dcterms:modified>
  <cp:revision>10</cp:revision>
  <dc:subject/>
  <dc:title>Chicago</dc:title>
</cp:coreProperties>
</file>